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532-AF46-4E9D-906A-8DEF2F9F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B43-5735-4D5F-B4F1-DC4799E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4ED-0F33-4650-A191-92FF6DC2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50A-4340-4109-8EA7-D3E3EF8B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FCD-3F95-47EC-9055-EBFD8EFC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3E3-B408-4256-B31D-919D35AF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9A5-9AFC-4DFE-9C6E-25C3B037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08A-0255-4C0A-B9DF-19A0166A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1B6-3315-4C82-A3BA-C749904A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CA9-79F2-4FA8-B81B-176BA7F2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43C-299B-4593-8235-DD3733E1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7D8-E025-4CE5-AA0E-A8BFCE66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F56A-4D89-425B-9B57-EE161BB2F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PT Compiled by D. Brian We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francis2"/>
          <p:cNvPicPr/>
          <p:nvPr/>
        </p:nvPicPr>
        <p:blipFill>
          <a:blip r:embed="rId1"/>
          <a:stretch/>
        </p:blipFill>
        <p:spPr>
          <a:xfrm>
            <a:off x="1600200" y="146160"/>
            <a:ext cx="5867280" cy="560844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43" name="WordArt 4"/>
          <p:cNvSpPr txBox="1"/>
          <p:nvPr/>
        </p:nvSpPr>
        <p:spPr>
          <a:xfrm>
            <a:off x="380880" y="5854680"/>
            <a:ext cx="83185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 Star Spangled Banner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463840" y="6477120"/>
            <a:ext cx="41749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y Francis Scott Key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.  What did the author originally write the lyrics 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The back side of a le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.  What does it mean to fly the flag at half-ma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A state official has died (Senator, President, Member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Congress, etc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Also flown half-mast on Memorial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.  What does it mean to fly the flag upside-dow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Help!  I’m in trouble!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.  What do the 13 stripes and 13 stars stand for on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iginal fla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The 13 original colon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a. Where is the only American flag that is not on planet Eart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b. Who placed it there and on what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Neil Armstrong – July 20, 196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.  What are some nicknames for our fla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Old Glory” “Stars and Stripes” “The Red, White and Blu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3"/>
          <p:cNvSpPr txBox="1"/>
          <p:nvPr/>
        </p:nvSpPr>
        <p:spPr>
          <a:xfrm>
            <a:off x="380880" y="152280"/>
            <a:ext cx="83185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 Star Spangled Banner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2743200" y="7621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id you know...?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5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5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5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"/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"/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"/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50"/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50"/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50"/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50"/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50"/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50"/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50"/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50"/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50"/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50"/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50"/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50"/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"/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"/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"/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"/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"/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"/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50"/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50"/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50"/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50"/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50"/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50"/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awnsLight"/>
          <p:cNvPicPr/>
          <p:nvPr/>
        </p:nvPicPr>
        <p:blipFill>
          <a:blip r:embed="rId1"/>
          <a:srcRect l="6261" t="0" r="0" b="0"/>
          <a:stretch/>
        </p:blipFill>
        <p:spPr>
          <a:xfrm>
            <a:off x="0" y="17640"/>
            <a:ext cx="9144000" cy="6438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152280" y="541008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h, say can you 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by the dawn's early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0" r="4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3"/>
          <p:cNvGrpSpPr/>
          <p:nvPr/>
        </p:nvGrpSpPr>
        <p:grpSpPr>
          <a:xfrm>
            <a:off x="228600" y="2743200"/>
            <a:ext cx="3276720" cy="3445560"/>
            <a:chOff x="228600" y="2743200"/>
            <a:chExt cx="3276720" cy="3445560"/>
          </a:xfrm>
        </p:grpSpPr>
        <p:sp>
          <p:nvSpPr>
            <p:cNvPr id="50" name="Text Box 4"/>
            <p:cNvSpPr/>
            <p:nvPr/>
          </p:nvSpPr>
          <p:spPr>
            <a:xfrm>
              <a:off x="228600" y="2743200"/>
              <a:ext cx="3276720" cy="3445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hat s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proudly we hailed at the twilight's last gl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28600" y="2743200"/>
              <a:ext cx="3276720" cy="34455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hat s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proudly we hailed at the twilight's last gl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228600" y="2743200"/>
              <a:ext cx="3276720" cy="344556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hat s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proudly we hailed at the twilight's last gl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228600" y="2743200"/>
              <a:ext cx="3276720" cy="34455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hat s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proudly we hailed at the twilight's last gl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NA001256"/>
          <p:cNvPicPr/>
          <p:nvPr/>
        </p:nvPicPr>
        <p:blipFill>
          <a:blip r:embed="rId1"/>
          <a:srcRect l="18367" t="2234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3"/>
          <p:cNvGrpSpPr/>
          <p:nvPr/>
        </p:nvGrpSpPr>
        <p:grpSpPr>
          <a:xfrm>
            <a:off x="3048120" y="31680"/>
            <a:ext cx="5943600" cy="2104920"/>
            <a:chOff x="3048120" y="31680"/>
            <a:chExt cx="5943600" cy="2104920"/>
          </a:xfrm>
        </p:grpSpPr>
        <p:sp>
          <p:nvSpPr>
            <p:cNvPr id="56" name="Text Box 4"/>
            <p:cNvSpPr/>
            <p:nvPr/>
          </p:nvSpPr>
          <p:spPr>
            <a:xfrm>
              <a:off x="3048120" y="31680"/>
              <a:ext cx="5943600" cy="2104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Whose broad stripes an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bright stars throug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the perilous fight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5"/>
            <p:cNvSpPr/>
            <p:nvPr/>
          </p:nvSpPr>
          <p:spPr>
            <a:xfrm>
              <a:off x="3048120" y="31680"/>
              <a:ext cx="5943600" cy="210492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Whose broad stripes an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bright stars throug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the perilous fight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6"/>
            <p:cNvSpPr/>
            <p:nvPr/>
          </p:nvSpPr>
          <p:spPr>
            <a:xfrm>
              <a:off x="3048120" y="31680"/>
              <a:ext cx="5943600" cy="210492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135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Whose broad stripes an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bright stars throug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the perilous fight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3048120" y="31680"/>
              <a:ext cx="5943600" cy="210492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Whose broad stripes an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bright stars throug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the perilous fight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Key_Flag"/>
          <p:cNvPicPr/>
          <p:nvPr/>
        </p:nvPicPr>
        <p:blipFill>
          <a:blip r:embed="rId1"/>
          <a:srcRect l="0" t="0" r="0" b="9897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3"/>
          <p:cNvGrpSpPr/>
          <p:nvPr/>
        </p:nvGrpSpPr>
        <p:grpSpPr>
          <a:xfrm>
            <a:off x="152280" y="5349960"/>
            <a:ext cx="8839440" cy="1434600"/>
            <a:chOff x="152280" y="5349960"/>
            <a:chExt cx="8839440" cy="1434600"/>
          </a:xfrm>
        </p:grpSpPr>
        <p:sp>
          <p:nvSpPr>
            <p:cNvPr id="62" name="Text Box 4"/>
            <p:cNvSpPr/>
            <p:nvPr/>
          </p:nvSpPr>
          <p:spPr>
            <a:xfrm>
              <a:off x="152280" y="534996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'er the ramparts we watche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ere so gallantly str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152280" y="534996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'er the ramparts we watche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ere so gallantly str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52280" y="534996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'er the ramparts we watche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ere so gallantly str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152280" y="534996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'er the ramparts we watche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ere so gallantly str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407378_f5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0" y="5425920"/>
            <a:ext cx="8153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nd the rocket's red glar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he bombs bursting in ai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shadowmoon1_f"/>
          <p:cNvPicPr/>
          <p:nvPr/>
        </p:nvPicPr>
        <p:blipFill>
          <a:blip r:embed="rId1"/>
          <a:srcRect l="0" t="18184" r="0" b="0"/>
          <a:stretch/>
        </p:blipFill>
        <p:spPr>
          <a:xfrm>
            <a:off x="0" y="798480"/>
            <a:ext cx="7391520" cy="605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52280" y="47520"/>
            <a:ext cx="883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Gave proof through the 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hat our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was st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alute_flag_alt"/>
          <p:cNvPicPr/>
          <p:nvPr/>
        </p:nvPicPr>
        <p:blipFill>
          <a:blip r:embed="rId1">
            <a:lum bright="20000"/>
          </a:blip>
          <a:srcRect l="0" t="0" r="11634" b="0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3"/>
          <p:cNvGrpSpPr/>
          <p:nvPr/>
        </p:nvGrpSpPr>
        <p:grpSpPr>
          <a:xfrm>
            <a:off x="152280" y="5181480"/>
            <a:ext cx="8839440" cy="1434600"/>
            <a:chOff x="152280" y="5181480"/>
            <a:chExt cx="8839440" cy="1434600"/>
          </a:xfrm>
        </p:grpSpPr>
        <p:sp>
          <p:nvSpPr>
            <p:cNvPr id="73" name="Text Box 4"/>
            <p:cNvSpPr/>
            <p:nvPr/>
          </p:nvSpPr>
          <p:spPr>
            <a:xfrm>
              <a:off x="152280" y="518148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h, say does tha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star-spangled banner yet w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5"/>
            <p:cNvSpPr/>
            <p:nvPr/>
          </p:nvSpPr>
          <p:spPr>
            <a:xfrm>
              <a:off x="152280" y="518148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h, say does tha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star-spangled banner yet w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152280" y="518148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h, say does tha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star-spangled banner yet w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7"/>
            <p:cNvSpPr/>
            <p:nvPr/>
          </p:nvSpPr>
          <p:spPr>
            <a:xfrm>
              <a:off x="152280" y="518148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h, say does tha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star-spangled banner yet w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63_Th_235_american-flag"/>
          <p:cNvPicPr/>
          <p:nvPr/>
        </p:nvPicPr>
        <p:blipFill>
          <a:blip r:embed="rId1">
            <a:lum bright="20000"/>
          </a:blip>
          <a:srcRect l="4399" t="0" r="6667" b="0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"/>
          <p:cNvGrpSpPr/>
          <p:nvPr/>
        </p:nvGrpSpPr>
        <p:grpSpPr>
          <a:xfrm>
            <a:off x="152280" y="5257800"/>
            <a:ext cx="6248520" cy="1434600"/>
            <a:chOff x="152280" y="5257800"/>
            <a:chExt cx="6248520" cy="1434600"/>
          </a:xfrm>
        </p:grpSpPr>
        <p:sp>
          <p:nvSpPr>
            <p:cNvPr id="79" name="Text Box 4"/>
            <p:cNvSpPr/>
            <p:nvPr/>
          </p:nvSpPr>
          <p:spPr>
            <a:xfrm>
              <a:off x="152280" y="5257800"/>
              <a:ext cx="62485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O'er the land of the free and the home of the brave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5"/>
            <p:cNvSpPr/>
            <p:nvPr/>
          </p:nvSpPr>
          <p:spPr>
            <a:xfrm>
              <a:off x="152280" y="5257800"/>
              <a:ext cx="62485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O'er the land of the free and the home of the brave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152280" y="5257800"/>
              <a:ext cx="62485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135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O'er the land of the free and the home of the brave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152280" y="5257800"/>
              <a:ext cx="62485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O'er the land of the free and the home of the brave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22:16:32Z</dcterms:created>
  <dc:creator>Brian Weese</dc:creator>
  <dc:description/>
  <dc:language>en-US</dc:language>
  <cp:lastModifiedBy>Leeann</cp:lastModifiedBy>
  <dcterms:modified xsi:type="dcterms:W3CDTF">2012-08-22T23:42:52Z</dcterms:modified>
  <cp:revision>27</cp:revision>
  <dc:subject/>
  <dc:title>Slide 1</dc:title>
</cp:coreProperties>
</file>